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995-7368-4DD6-AD38-000C972D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453-F013-41B4-8C4F-FBF642DA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404-B326-4A87-A773-5CC21C3F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824-3C71-4983-8611-6726C48E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A48-593F-445A-8DF8-74D3F799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F07-F2ED-4453-82A6-2EF38FFE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E6E-F47C-4120-9AA4-28C703CF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F13-2D0F-4A14-B40C-4D509C40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6A8-2AAD-4792-9198-0A7F7AC0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080-92C1-497F-A80E-F3BDD285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690-E5E8-4464-A05F-68263403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892-DB60-4B6C-A7C8-E0664AB3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74B6-69E8-4F63-A65E-B0572669D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ign tools for representing websi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ign elements that influence the presentation of on-screen information produc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ing &amp;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ck-up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out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ntions, Formats &amp; Design elements influencing on-screen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ing of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sc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 na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d, italics &amp; underl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thumb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type, a model or simulation of a website demonstrating its functionality, partial navigation options &amp;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, manual/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of the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3336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: techniques &amp; procedures for web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taken 6 months afte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taken not by web desi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hit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and anecdotal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from sample of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33336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 of effectiveness of websit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03:45:16Z</dcterms:created>
  <dc:creator>T01421606</dc:creator>
  <dc:description/>
  <dc:language>en-US</dc:language>
  <cp:lastModifiedBy>Kelvin Baird</cp:lastModifiedBy>
  <dcterms:modified xsi:type="dcterms:W3CDTF">2007-04-09T22:29:33Z</dcterms:modified>
  <cp:revision>6</cp:revision>
  <dc:subject/>
  <dc:title>Components of Computer System:  </dc:title>
</cp:coreProperties>
</file>